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292934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155554-28E2-48E1-AD03-15CC850399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D0F7AE-5377-4E21-9662-29AE17F836EF}" type="slidenum">
              <a:rPr b="0" lang="en-US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100F51-6DF4-4CFB-8B90-5C03F276E5DC}" type="slidenum">
              <a:rPr b="0" lang="en-US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890BE4-F5DA-4176-B207-C37E3208E0D4}" type="slidenum">
              <a:rPr b="0" lang="en-US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13445B-CB80-4294-95A0-2E112AD932FA}" type="slidenum">
              <a:rPr b="0" lang="en-US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31A6BC-0B84-4F52-BB13-7867DA47494C}" type="slidenum">
              <a:rPr b="0" lang="en-US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E8010D-07C9-46F3-8F38-EF67586724FF}" type="slidenum">
              <a:rPr b="0" lang="en-US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C4A7B3-E209-4C3C-8AB8-AF9EDE0D8936}" type="slidenum">
              <a:rPr b="0" lang="en-US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EE3B3D-71C8-4D6E-9B4F-691E500B85BE}" type="slidenum">
              <a:rPr b="0" lang="en-US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3E25FC-75C2-4F0F-A8EA-24CEAF45996D}" type="slidenum">
              <a:rPr b="0" lang="en-US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99CC2B-8C9D-4C72-9050-06F59FAA3C17}" type="slidenum">
              <a:rPr b="0" lang="en-US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479EE4-6517-4E16-9280-4CB5138C4358}" type="slidenum">
              <a:rPr b="0" lang="en-US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5A523D-7E36-40CA-AD7A-FCC6D28D1C82}" type="slidenum">
              <a:rPr b="0" lang="en-US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2A2EEA-9C2C-45EF-90FC-0B9F992B16A4}" type="slidenum">
              <a:rPr b="0" lang="en-US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7B1429-9D8A-46EC-BE19-08BF9DDFCC59}" type="slidenum">
              <a:rPr b="0" lang="en-US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6BE4D2-DB81-4A15-B2FD-BED403316C27}" type="slidenum">
              <a:rPr b="0" lang="en-US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2F33B4-79F1-4153-8829-6F2D787298E6}" type="slidenum">
              <a:rPr b="0" lang="en-US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F040-0003-421B-B623-F8164C625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9CD9-4C92-414B-873E-C62CDE7E8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35D4-4EFE-4337-B731-73479D5CB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3141-FA1A-4365-BD6A-22CAA11BD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18C5-ABFB-4F13-B69D-19B4150C2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6249-67C4-46FA-BFFC-D3146E1C8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EBA2-60BC-46C2-8FA0-75D7C7F06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9822-699D-423C-983D-36CDD2E24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F6A2-53F0-4F12-99AA-4D427BC7E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BBAF-37BB-4871-B430-7F3045AC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6C61-2081-4990-8D65-0E7AC3E9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4399-847B-49B3-AF29-06BC4D11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292934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9293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92934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9293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92934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92934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92934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92934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d8d8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d8d8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d8d8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AB1972-12B4-4376-A323-968ABB6AEAD8}" type="slidenum">
              <a:rPr b="0" lang="en-US" sz="1200" spc="-1" strike="noStrike">
                <a:solidFill>
                  <a:srgbClr val="8d8d8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2" descr=""/>
          <p:cNvPicPr/>
          <p:nvPr/>
        </p:nvPicPr>
        <p:blipFill>
          <a:blip r:embed="rId1"/>
          <a:stretch/>
        </p:blipFill>
        <p:spPr>
          <a:xfrm>
            <a:off x="0" y="399960"/>
            <a:ext cx="9144000" cy="1025640"/>
          </a:xfrm>
          <a:prstGeom prst="rect">
            <a:avLst/>
          </a:prstGeom>
          <a:ln w="0">
            <a:noFill/>
          </a:ln>
        </p:spPr>
      </p:pic>
      <p:sp>
        <p:nvSpPr>
          <p:cNvPr id="49" name="TextBox 14"/>
          <p:cNvSpPr/>
          <p:nvPr/>
        </p:nvSpPr>
        <p:spPr>
          <a:xfrm>
            <a:off x="0" y="2325600"/>
            <a:ext cx="914400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292934"/>
                </a:solidFill>
                <a:latin typeface="Abadi MT Condensed Extra Bold"/>
                <a:ea typeface="Abadi MT Condensed Extra Bold"/>
              </a:rPr>
              <a:t>TERAPIA COMBINADA EM PACIENTES COM PNEUMONIA ASSOCIADA À VENTILAÇÃO MECÂNICA CAUSADA POR ENTEROBACTÉRIAS  PRODUTORAS DE CARBAPENEMASE DO TIPO KPC</a:t>
            </a:r>
            <a:endParaRPr b="0" lang="en-US" sz="2700" spc="-1" strike="noStrike">
              <a:solidFill>
                <a:srgbClr val="292934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Apresentador: Alexandre B. Merlini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20.11.2014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</p:txBody>
      </p:sp>
      <p:pic>
        <p:nvPicPr>
          <p:cNvPr id="50" name="Picture 15" descr=""/>
          <p:cNvPicPr/>
          <p:nvPr/>
        </p:nvPicPr>
        <p:blipFill>
          <a:blip r:embed="rId2"/>
          <a:stretch/>
        </p:blipFill>
        <p:spPr>
          <a:xfrm>
            <a:off x="141120" y="5724360"/>
            <a:ext cx="4116600" cy="812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" descr=""/>
          <p:cNvPicPr/>
          <p:nvPr/>
        </p:nvPicPr>
        <p:blipFill>
          <a:blip r:embed="rId3"/>
          <a:stretch/>
        </p:blipFill>
        <p:spPr>
          <a:xfrm>
            <a:off x="7238880" y="4989600"/>
            <a:ext cx="190512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33440" y="156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292934"/>
                </a:solidFill>
                <a:latin typeface="Abadi MT Condensed Extra Bold"/>
                <a:ea typeface="Abadi MT Condensed Extra Bold"/>
              </a:rPr>
              <a:t>MÉTODO</a:t>
            </a:r>
            <a:endParaRPr b="0" lang="en-US" sz="4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210960" y="1724040"/>
            <a:ext cx="890928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Identificação das EPC’s (LBA)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Método automatizado VITEK2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Resistente à qualquer carbapenêmico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Teste de Hodge modificado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RT-PCR: </a:t>
            </a:r>
            <a:r>
              <a:rPr b="0" i="1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bla</a:t>
            </a:r>
            <a:r>
              <a:rPr b="0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KPC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lvl="3" marL="17146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E. coli ATCC 25922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lvl="3" marL="17146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K. pneumoniae ATCC BAA-1705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Dados clínicos, laboratoriais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Desfecho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Tratamento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Perfil de susceptibilidade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5338800" y="3089160"/>
            <a:ext cx="3781440" cy="35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177840" y="-23760"/>
            <a:ext cx="8778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33440" y="156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292934"/>
                </a:solidFill>
                <a:latin typeface="Abadi MT Condensed Extra Bold"/>
                <a:ea typeface="Abadi MT Condensed Extra Bold"/>
              </a:rPr>
              <a:t>RESULTADOS</a:t>
            </a:r>
            <a:endParaRPr b="0" lang="en-US" sz="4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80" name="TextBox 5"/>
          <p:cNvSpPr/>
          <p:nvPr/>
        </p:nvSpPr>
        <p:spPr>
          <a:xfrm>
            <a:off x="210960" y="1724040"/>
            <a:ext cx="8909280" cy="55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101 casos de PAVM por EPC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92 (91.08%) – </a:t>
            </a:r>
            <a:r>
              <a:rPr b="0" i="1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K. pneumoniae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9 – </a:t>
            </a:r>
            <a:r>
              <a:rPr b="0" i="1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E. aerogenes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Sexo masculino (n = 65) – 64.4%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Idade média – 55.9 anos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Hospitalização antes da PAVM-EPC: 19.1 dias / após: 15.1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Total: 49.2 dias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Índice de Charlson – 1.66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" descr=""/>
          <p:cNvPicPr/>
          <p:nvPr/>
        </p:nvPicPr>
        <p:blipFill>
          <a:blip r:embed="rId1"/>
          <a:stretch/>
        </p:blipFill>
        <p:spPr>
          <a:xfrm>
            <a:off x="235080" y="1928880"/>
            <a:ext cx="877068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33440" y="156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292934"/>
                </a:solidFill>
                <a:latin typeface="Abadi MT Condensed Extra Bold"/>
                <a:ea typeface="Abadi MT Condensed Extra Bold"/>
              </a:rPr>
              <a:t>RESULTADOS</a:t>
            </a:r>
            <a:endParaRPr b="0" lang="en-US" sz="4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210960" y="1817640"/>
            <a:ext cx="8909280" cy="57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Mortalidade em 30 dias: 57.4%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Hospitalar: 67.3%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Terapia adequada &lt; 24 horas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       </a:t>
            </a:r>
            <a:r>
              <a:rPr b="0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diferença significativa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433440" y="2919240"/>
          <a:ext cx="8229600" cy="14176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29293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badi MT Condensed Light"/>
                          <a:ea typeface="Abadi MT Condensed Light"/>
                        </a:rPr>
                        <a:t>30 dias</a:t>
                      </a:r>
                      <a:endParaRPr b="0" lang="en-US" sz="24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29293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badi MT Condensed Light"/>
                          <a:ea typeface="Abadi MT Condensed Light"/>
                        </a:rPr>
                        <a:t>Global</a:t>
                      </a:r>
                      <a:endParaRPr b="0" lang="en-US" sz="24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292934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292934"/>
                          </a:solidFill>
                          <a:latin typeface="Abadi MT Condensed Light"/>
                          <a:ea typeface="Abadi MT Condensed Light"/>
                        </a:rPr>
                        <a:t>Terapia adequada</a:t>
                      </a:r>
                      <a:endParaRPr b="0" lang="en-US" sz="24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dcd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292934"/>
                          </a:solidFill>
                          <a:latin typeface="Abadi MT Condensed Light"/>
                          <a:ea typeface="Abadi MT Condensed Light"/>
                        </a:rPr>
                        <a:t>60.7%</a:t>
                      </a:r>
                      <a:endParaRPr b="0" lang="en-US" sz="24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dcd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292934"/>
                          </a:solidFill>
                          <a:latin typeface="Abadi MT Condensed Light"/>
                          <a:ea typeface="Abadi MT Condensed Light"/>
                        </a:rPr>
                        <a:t>67.9%</a:t>
                      </a:r>
                      <a:endParaRPr b="0" lang="en-US" sz="24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dcdcd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292934"/>
                          </a:solidFill>
                          <a:latin typeface="Abadi MT Condensed Light"/>
                          <a:ea typeface="Abadi MT Condensed Light"/>
                        </a:rPr>
                        <a:t>Inadequada</a:t>
                      </a:r>
                      <a:endParaRPr b="0" lang="en-US" sz="24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292934"/>
                          </a:solidFill>
                          <a:latin typeface="Abadi MT Condensed Light"/>
                          <a:ea typeface="Abadi MT Condensed Light"/>
                        </a:rPr>
                        <a:t>56.2%</a:t>
                      </a:r>
                      <a:endParaRPr b="0" lang="en-US" sz="24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292934"/>
                          </a:solidFill>
                          <a:latin typeface="Abadi MT Condensed Light"/>
                          <a:ea typeface="Abadi MT Condensed Light"/>
                        </a:rPr>
                        <a:t>67.1%</a:t>
                      </a:r>
                      <a:endParaRPr b="0" lang="en-US" sz="24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8e8"/>
                    </a:solidFill>
                  </a:tcPr>
                </a:tc>
              </a:tr>
            </a:tbl>
          </a:graphicData>
        </a:graphic>
      </p:graphicFrame>
      <p:sp>
        <p:nvSpPr>
          <p:cNvPr id="85" name="Multiply 3"/>
          <p:cNvSpPr/>
          <p:nvPr/>
        </p:nvSpPr>
        <p:spPr>
          <a:xfrm>
            <a:off x="598320" y="5243400"/>
            <a:ext cx="719280" cy="330480"/>
          </a:xfrm>
          <a:custGeom>
            <a:avLst/>
            <a:gdLst/>
            <a:ahLst/>
            <a:rect l="l" t="t" r="r" b="b"/>
            <a:pathLst>
              <a:path w="718878" h="329231">
                <a:moveTo>
                  <a:pt x="156535" y="114275"/>
                </a:moveTo>
                <a:lnTo>
                  <a:pt x="188778" y="43872"/>
                </a:lnTo>
                <a:lnTo>
                  <a:pt x="359439" y="122031"/>
                </a:lnTo>
                <a:lnTo>
                  <a:pt x="530100" y="43872"/>
                </a:lnTo>
                <a:lnTo>
                  <a:pt x="562343" y="114275"/>
                </a:lnTo>
                <a:lnTo>
                  <a:pt x="452423" y="164616"/>
                </a:lnTo>
                <a:lnTo>
                  <a:pt x="562343" y="214956"/>
                </a:lnTo>
                <a:lnTo>
                  <a:pt x="530100" y="285359"/>
                </a:lnTo>
                <a:lnTo>
                  <a:pt x="359439" y="207200"/>
                </a:lnTo>
                <a:lnTo>
                  <a:pt x="188778" y="285359"/>
                </a:lnTo>
                <a:lnTo>
                  <a:pt x="156535" y="214956"/>
                </a:lnTo>
                <a:lnTo>
                  <a:pt x="266455" y="164616"/>
                </a:lnTo>
                <a:lnTo>
                  <a:pt x="156535" y="114275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8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334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292934"/>
                </a:solidFill>
                <a:latin typeface="Abadi MT Condensed Extra Bold"/>
                <a:ea typeface="Abadi MT Condensed Extra Bold"/>
              </a:rPr>
              <a:t>RESULTADOS</a:t>
            </a:r>
            <a:endParaRPr b="0" lang="en-US" sz="4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87" name="TextBox 5"/>
          <p:cNvSpPr/>
          <p:nvPr/>
        </p:nvSpPr>
        <p:spPr>
          <a:xfrm>
            <a:off x="210960" y="1982880"/>
            <a:ext cx="8909280" cy="47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Idade: fator de risco independente (p &lt; 0.001) – análise multivariada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Mortalidade 2x maior &gt; 50 anos [RR = 2.43 (1.26-4.64)]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Presença de mais comorbidades           maior mortalidade (p = 0.002) 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Idade, neoplasias, DRC, HAS, trauma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88" name="Right Arrow 6"/>
          <p:cNvSpPr/>
          <p:nvPr/>
        </p:nvSpPr>
        <p:spPr>
          <a:xfrm>
            <a:off x="4103640" y="3165480"/>
            <a:ext cx="539640" cy="3222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008000"/>
          </a:solidFill>
          <a:ln w="9360">
            <a:solidFill>
              <a:srgbClr val="8f9f95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34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292934"/>
                </a:solidFill>
                <a:latin typeface="Abadi MT Condensed Extra Bold"/>
                <a:ea typeface="Abadi MT Condensed Extra Bold"/>
              </a:rPr>
              <a:t>RESULTADOS</a:t>
            </a:r>
            <a:endParaRPr b="0" lang="en-US" sz="4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90" name="TextBox 5"/>
          <p:cNvSpPr/>
          <p:nvPr/>
        </p:nvSpPr>
        <p:spPr>
          <a:xfrm>
            <a:off x="210960" y="1982880"/>
            <a:ext cx="8909280" cy="64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Antibioticoterapia adequada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Número de drogas ativas (mono ou combinada)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Carbepenêmicos (MIC &gt; 16) 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Menor mortalidade: terapia combinada (p = 0.01)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Mortalidade monoterapia x terapia inadequada 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2 drogas ativas: 26.7% / 1 droga: 63.8% (p = 0.011)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" descr=""/>
          <p:cNvPicPr/>
          <p:nvPr/>
        </p:nvPicPr>
        <p:blipFill>
          <a:blip r:embed="rId1"/>
          <a:stretch/>
        </p:blipFill>
        <p:spPr>
          <a:xfrm>
            <a:off x="917640" y="488880"/>
            <a:ext cx="7192800" cy="59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334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292934"/>
                </a:solidFill>
                <a:latin typeface="Abadi MT Condensed Extra Bold"/>
                <a:ea typeface="Abadi MT Condensed Extra Bold"/>
              </a:rPr>
              <a:t>RESULTADOS</a:t>
            </a:r>
            <a:endParaRPr b="0" lang="en-US" sz="4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235080" y="1770120"/>
            <a:ext cx="8908920" cy="68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Idade: fator de risco independente (≥ 65 e &lt; 65)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≥ </a:t>
            </a:r>
            <a:r>
              <a:rPr b="0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65 anos: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Terapia adequada não alterou a mortalidade;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Terapia combinada também não reduziu;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Curva de sobrevivência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Maior tendência à mortalidade: mono ou inadequada (p &lt; 0.05)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334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292934"/>
                </a:solidFill>
                <a:latin typeface="Abadi MT Condensed Extra Bold"/>
                <a:ea typeface="Abadi MT Condensed Extra Bold"/>
              </a:rPr>
              <a:t>RESULTADOS</a:t>
            </a:r>
            <a:endParaRPr b="0" lang="en-US" sz="4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235080" y="1770120"/>
            <a:ext cx="8908920" cy="9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Opçôes terapêuticas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Tigeciclina, colistina, polimixina, aminoglicosídeos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7 pacientes em monoterapia com colistina           óbito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48 pacientes: polimixina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Sobrevida: 47.9%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37: tigeciclina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56.75%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4: aminoglicosídeos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1 óbito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96" name="Right Arrow 3"/>
          <p:cNvSpPr/>
          <p:nvPr/>
        </p:nvSpPr>
        <p:spPr>
          <a:xfrm>
            <a:off x="5091120" y="2967120"/>
            <a:ext cx="541440" cy="32364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008000"/>
          </a:solidFill>
          <a:ln w="9360">
            <a:solidFill>
              <a:srgbClr val="8f9f95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3440" y="156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292934"/>
                </a:solidFill>
                <a:latin typeface="Abadi MT Condensed Extra Bold"/>
                <a:ea typeface="Abadi MT Condensed Extra Bold"/>
              </a:rPr>
              <a:t>INTRODUÇÃO</a:t>
            </a:r>
            <a:endParaRPr b="0" lang="en-US" sz="4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235080" y="5769000"/>
            <a:ext cx="8632800" cy="916920"/>
          </a:xfrm>
          <a:prstGeom prst="rect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American Thoracic Society, Infectious Diseases Society of America. Guidelnes for the management of adults with hospital-acquired, ventilator-associated, and healthcare-associated pneumonia. </a:t>
            </a:r>
            <a:r>
              <a:rPr b="1" lang="en-US" sz="18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Am J Respir Crit Med</a:t>
            </a:r>
            <a:r>
              <a:rPr b="0" lang="en-US" sz="18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. 2004; 171(4):388</a:t>
            </a: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235080" y="1676520"/>
            <a:ext cx="8908920" cy="34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PAV: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Pneumonia nosocomial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Período superior a 48-72 horas após início da VM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Patogênese: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Colonização do trato aerodigestivo          aspiração de secreções contamina-das           VA inferiores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55" name="Right Arrow 6"/>
          <p:cNvSpPr/>
          <p:nvPr/>
        </p:nvSpPr>
        <p:spPr>
          <a:xfrm>
            <a:off x="4762440" y="3568680"/>
            <a:ext cx="541440" cy="322200"/>
          </a:xfrm>
          <a:prstGeom prst="rightArrow">
            <a:avLst>
              <a:gd name="adj1" fmla="val 50000"/>
              <a:gd name="adj2" fmla="val 50164"/>
            </a:avLst>
          </a:prstGeom>
          <a:solidFill>
            <a:srgbClr val="008000"/>
          </a:solidFill>
          <a:ln w="9360">
            <a:solidFill>
              <a:srgbClr val="8f9f95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56" name="Right Arrow 7"/>
          <p:cNvSpPr/>
          <p:nvPr/>
        </p:nvSpPr>
        <p:spPr>
          <a:xfrm>
            <a:off x="1620720" y="3990960"/>
            <a:ext cx="541440" cy="322200"/>
          </a:xfrm>
          <a:prstGeom prst="rightArrow">
            <a:avLst>
              <a:gd name="adj1" fmla="val 50000"/>
              <a:gd name="adj2" fmla="val 50164"/>
            </a:avLst>
          </a:prstGeom>
          <a:solidFill>
            <a:srgbClr val="008000"/>
          </a:solidFill>
          <a:ln w="9360">
            <a:solidFill>
              <a:srgbClr val="8f9f95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690480" y="1130400"/>
            <a:ext cx="7942320" cy="44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33440" y="25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292934"/>
                </a:solidFill>
                <a:latin typeface="Abadi MT Condensed Extra Bold"/>
                <a:ea typeface="Abadi MT Condensed Extra Bold"/>
              </a:rPr>
              <a:t>DISCUSSÃO</a:t>
            </a:r>
            <a:endParaRPr b="0" lang="en-US" sz="4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141120" y="1770120"/>
            <a:ext cx="8909280" cy="62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K. pneumoniae</a:t>
            </a:r>
            <a:r>
              <a:rPr b="0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 produtora de KPC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Endêmica no sul brasileiro 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Condições deficientes de assistência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Qualificação profissional - UTI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Primeiro estudo que avaliou mortalidade na PAVM por EPC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Semelhante a outros estudos, em que: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Superioridade da terapia combinada comparada à monoterapia no tratamento de infecções por EPC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3440" y="156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292934"/>
                </a:solidFill>
                <a:latin typeface="Abadi MT Condensed Extra Bold"/>
                <a:ea typeface="Abadi MT Condensed Extra Bold"/>
              </a:rPr>
              <a:t>DISCUSSÃO</a:t>
            </a:r>
            <a:endParaRPr b="0" lang="en-US" sz="4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65240" y="1652760"/>
            <a:ext cx="8908920" cy="54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Alta mortalidade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27%: terapia inadequada nos 5 primeiros dias 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Apenas 34% recebeu ATB adequado nas primeiras 24h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Conclusões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Fator independente de mortalidade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Terapia combinada: protetora em pacientes &lt; 50 anos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Alta incidência de EPC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lvl="2" marL="1257480" indent="-343080" algn="just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Terapia combinada até o resultado da cultura + antibiograma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33440" y="156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292934"/>
                </a:solidFill>
                <a:latin typeface="Abadi MT Condensed Extra Bold"/>
                <a:ea typeface="Abadi MT Condensed Extra Bold"/>
              </a:rPr>
              <a:t>AGRADECIMENTOS</a:t>
            </a:r>
            <a:endParaRPr b="0" lang="en-US" sz="4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210960" y="1817640"/>
            <a:ext cx="89092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Orientador: Prof. Dr. Felipe Francisco Tuon 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Equipe do SCIH do Hospital Universitário Evangélico de Curitiba (HUEC)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Universidade Estadual de Ponta Grossa (UEPG)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Liga Acadêmica de Infectologia do Paraná (LAINF)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076400" y="117360"/>
            <a:ext cx="7074000" cy="660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33440" y="156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292934"/>
                </a:solidFill>
                <a:latin typeface="Abadi MT Condensed Extra Bold"/>
                <a:ea typeface="Abadi MT Condensed Extra Bold"/>
              </a:rPr>
              <a:t>INTRODUÇÃO</a:t>
            </a:r>
            <a:endParaRPr b="0" lang="en-US" sz="4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235080" y="5908680"/>
            <a:ext cx="8632800" cy="642600"/>
          </a:xfrm>
          <a:prstGeom prst="rect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Stevens JP </a:t>
            </a:r>
            <a:r>
              <a:rPr b="0" i="1" lang="en-US" sz="18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et al</a:t>
            </a:r>
            <a:r>
              <a:rPr b="0" lang="en-US" sz="18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. When policy gets it right: variability in U.S. Hospitals’ diagnosis of ventilator-associated pneumonia. </a:t>
            </a:r>
            <a:r>
              <a:rPr b="1" lang="en-US" sz="18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Crit Care Med</a:t>
            </a:r>
            <a:r>
              <a:rPr b="0" lang="en-US" sz="18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. 2014; 42(3):497-503.</a:t>
            </a: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235080" y="1676520"/>
            <a:ext cx="8908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Diagnóstico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Novo ou progressivo infiltrado pulmonar;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≥ </a:t>
            </a:r>
            <a:r>
              <a:rPr b="0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1 dos seguintes achados (início gradual / repentino)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Febre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Secreção traqueobrônquica purulenta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Leucocitose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Aumento da FR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Diminuição do volume corrente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Aumento do volume minuto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Diminuição da saturação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3440" y="156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292934"/>
                </a:solidFill>
                <a:latin typeface="Abadi MT Condensed Extra Bold"/>
                <a:ea typeface="Abadi MT Condensed Extra Bold"/>
              </a:rPr>
              <a:t>INTRODUÇÃO</a:t>
            </a:r>
            <a:endParaRPr b="0" lang="en-US" sz="4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235080" y="5815080"/>
            <a:ext cx="8632800" cy="1191240"/>
          </a:xfrm>
          <a:prstGeom prst="rect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Niederman MS. Hospital-acquired pneumonia, health care-associated pneumonia, ventilator-associated pneumonia, and ventilator-associated tracheobronchitis: definitions and challenges in trial design. </a:t>
            </a:r>
            <a:r>
              <a:rPr b="1" lang="en-US" sz="18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Clin Inf Dis</a:t>
            </a:r>
            <a:r>
              <a:rPr b="0" lang="en-US" sz="18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. 2010; 51 Suppl1:S12-7.</a:t>
            </a: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235080" y="1676520"/>
            <a:ext cx="890892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Radiografia de Tórax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Normal          exclui VAP;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Alterada: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Infiltrados alveolares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Broncograma aéreo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“</a:t>
            </a:r>
            <a:r>
              <a:rPr b="0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Silhueta”- órgãos sólidos adjacentes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Coleta de secreções do trato respiratório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4" name="Right Arrow 4"/>
          <p:cNvSpPr/>
          <p:nvPr/>
        </p:nvSpPr>
        <p:spPr>
          <a:xfrm>
            <a:off x="1962000" y="2130480"/>
            <a:ext cx="541440" cy="322200"/>
          </a:xfrm>
          <a:prstGeom prst="rightArrow">
            <a:avLst>
              <a:gd name="adj1" fmla="val 50000"/>
              <a:gd name="adj2" fmla="val 50164"/>
            </a:avLst>
          </a:prstGeom>
          <a:solidFill>
            <a:srgbClr val="008000"/>
          </a:solidFill>
          <a:ln w="9360">
            <a:solidFill>
              <a:srgbClr val="8f9f95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1892160" y="571680"/>
            <a:ext cx="53596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33440" y="156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292934"/>
                </a:solidFill>
                <a:latin typeface="Abadi MT Condensed Extra Bold"/>
                <a:ea typeface="Abadi MT Condensed Extra Bold"/>
              </a:rPr>
              <a:t>INTRODUÇÃO</a:t>
            </a:r>
            <a:endParaRPr b="0" lang="en-US" sz="4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7" name="TextBox 5"/>
          <p:cNvSpPr/>
          <p:nvPr/>
        </p:nvSpPr>
        <p:spPr>
          <a:xfrm>
            <a:off x="235080" y="1676520"/>
            <a:ext cx="890892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Coleta de amostra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Métodos não-broncoscópicos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Aspiração traqueal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Mini-LBA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Métodos broncoscópicos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LBA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Escova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4367160" y="2116080"/>
            <a:ext cx="4295880" cy="3222720"/>
          </a:xfrm>
          <a:prstGeom prst="rect">
            <a:avLst/>
          </a:prstGeom>
          <a:ln w="0">
            <a:noFill/>
          </a:ln>
        </p:spPr>
      </p:pic>
      <p:sp>
        <p:nvSpPr>
          <p:cNvPr id="69" name="TextBox 6"/>
          <p:cNvSpPr/>
          <p:nvPr/>
        </p:nvSpPr>
        <p:spPr>
          <a:xfrm>
            <a:off x="235080" y="5769000"/>
            <a:ext cx="8632800" cy="916920"/>
          </a:xfrm>
          <a:prstGeom prst="rect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American Thoracic Society, Infectious Diseases Society of America. Guidelnes for the management of adults with hospital-acquired, ventilator-associated, and healthcare-associated pneumonia. </a:t>
            </a:r>
            <a:r>
              <a:rPr b="1" lang="en-US" sz="18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Am J Respir Crit Med</a:t>
            </a:r>
            <a:r>
              <a:rPr b="0" lang="en-US" sz="18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. 2004; 171(4):388</a:t>
            </a: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33440" y="156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292934"/>
                </a:solidFill>
                <a:latin typeface="Abadi MT Condensed Extra Bold"/>
                <a:ea typeface="Abadi MT Condensed Extra Bold"/>
              </a:rPr>
              <a:t>INTRODUÇÃO</a:t>
            </a:r>
            <a:endParaRPr b="0" lang="en-US" sz="4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235080" y="1770120"/>
            <a:ext cx="890892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Aumento da incidência de infecções por EPC’s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Redução de opções terapêuticas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Tigeciclina, polimixinas e aminoglicosídeos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PAVM causada por EPC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Ausência de estudos epidemiológicos com grandes amostras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Papel da terapia combinada?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235080" y="5769000"/>
            <a:ext cx="8632800" cy="642600"/>
          </a:xfrm>
          <a:prstGeom prst="rect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Castanheira M, Sader HS, Jones RN. </a:t>
            </a:r>
            <a:r>
              <a:rPr b="0" lang="en-US" sz="1800" spc="-1" strike="noStrike">
                <a:solidFill>
                  <a:srgbClr val="292934"/>
                </a:solidFill>
                <a:latin typeface="Calibri"/>
              </a:rPr>
              <a:t>Antimicrobial susceptibility patterns of KPC-producing or CTX-M-producing Enterobacteriaceae</a:t>
            </a:r>
            <a:r>
              <a:rPr b="0" lang="pt-BR" sz="1800" spc="-1" strike="noStrike">
                <a:solidFill>
                  <a:srgbClr val="292934"/>
                </a:solidFill>
                <a:latin typeface="Calibri"/>
              </a:rPr>
              <a:t>. </a:t>
            </a:r>
            <a:r>
              <a:rPr b="0" lang="en-US" sz="1800" spc="-1" strike="noStrike">
                <a:solidFill>
                  <a:srgbClr val="292934"/>
                </a:solidFill>
                <a:latin typeface="Calibri"/>
              </a:rPr>
              <a:t>Microb Drug Resist. 2010; 16(1):61-65.</a:t>
            </a:r>
            <a:r>
              <a:rPr b="0" lang="pt-BR" sz="1800" spc="-1" strike="noStrike">
                <a:solidFill>
                  <a:srgbClr val="292934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33440" y="156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292934"/>
                </a:solidFill>
                <a:latin typeface="Abadi MT Condensed Extra Bold"/>
                <a:ea typeface="Abadi MT Condensed Extra Bold"/>
              </a:rPr>
              <a:t>OBJETIVOS</a:t>
            </a:r>
            <a:endParaRPr b="0" lang="en-US" sz="4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74" name="TextBox 5"/>
          <p:cNvSpPr/>
          <p:nvPr/>
        </p:nvSpPr>
        <p:spPr>
          <a:xfrm>
            <a:off x="210960" y="1724040"/>
            <a:ext cx="8909280" cy="51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Estudo epidemiológico, transversal, retrospectivo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Perfil epidemiológico e desfechos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PAVM causada por EPC’s (enterobactérias produtoras de carbapenemase – tipo KPC)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Outubro/2011 a junho/2014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Abadi MT Condensed Light"/>
                <a:ea typeface="Abadi MT Condensed Light"/>
              </a:rPr>
              <a:t>Hospital Universitário Evangélico de Curitiba (HUEC)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buClr>
                <a:srgbClr val="292934"/>
              </a:buClr>
              <a:buFont typeface="Abadi MT Condensed Light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8T12:15:07Z</dcterms:created>
  <dc:creator>Alexandre Bueno Merlini</dc:creator>
  <dc:description/>
  <dc:language>en-US</dc:language>
  <cp:lastModifiedBy>Alexandre Bueno Merlini</cp:lastModifiedBy>
  <dcterms:modified xsi:type="dcterms:W3CDTF">2014-11-20T12:05:53Z</dcterms:modified>
  <cp:revision>85</cp:revision>
  <dc:subject/>
  <dc:title>PowerPoint Presentation</dc:title>
</cp:coreProperties>
</file>